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E32-5615-41FA-939A-43BA7655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17D-3260-4310-8609-51FD7D95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F668-F9FB-41B8-9413-86091077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9A1-3A91-43CE-8267-A73AFF62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794-38D2-43D9-AD3D-B5029D0D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0BC-637A-4C8E-829B-039A1137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091-AC44-4D50-9FE8-2D8A6172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7F86-9E1A-484B-9317-4F106613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7E9-8F6A-4B2A-B904-4F0A8BD5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D19-795B-4E6F-9D8B-D2E334F8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942-8E5C-4DA6-BB3B-B9891A23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B36-0081-438E-80A8-ADE95547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60FE2-A5C2-41F7-977C-4D129478DE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3EBDB-65CC-4A60-A868-EF9C7EE76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Macintosh HD:Users:lydiakinney:Desktop:Screen shot 2010-05-06 at 11.41.20 AM.png"/>
          <p:cNvPicPr/>
          <p:nvPr/>
        </p:nvPicPr>
        <p:blipFill>
          <a:blip r:embed="rId1"/>
          <a:stretch/>
        </p:blipFill>
        <p:spPr>
          <a:xfrm>
            <a:off x="1832040" y="1187280"/>
            <a:ext cx="54864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Screen shot 2010-05-06 at 12.52.27 PM.png"/>
          <p:cNvPicPr/>
          <p:nvPr/>
        </p:nvPicPr>
        <p:blipFill>
          <a:blip r:embed="rId1"/>
          <a:stretch/>
        </p:blipFill>
        <p:spPr>
          <a:xfrm>
            <a:off x="1828800" y="1374840"/>
            <a:ext cx="54864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Macintosh HD:Users:lydiakinney:Desktop:Screen shot 2010-05-06 at 11.49.28 AM.png"/>
          <p:cNvPicPr/>
          <p:nvPr/>
        </p:nvPicPr>
        <p:blipFill>
          <a:blip r:embed="rId1"/>
          <a:stretch/>
        </p:blipFill>
        <p:spPr>
          <a:xfrm>
            <a:off x="1101600" y="635040"/>
            <a:ext cx="72043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Macintosh HD:Users:lydiakinney:Desktop:Screen shot 2010-05-06 at 11.58.16 AM.png"/>
          <p:cNvPicPr/>
          <p:nvPr/>
        </p:nvPicPr>
        <p:blipFill>
          <a:blip r:embed="rId1"/>
          <a:stretch/>
        </p:blipFill>
        <p:spPr>
          <a:xfrm>
            <a:off x="336600" y="271440"/>
            <a:ext cx="822960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Macintosh HD:Users:lydiakinney:Desktop:Screen shot 2010-05-06 at 12.08.03 PM.png"/>
          <p:cNvPicPr/>
          <p:nvPr/>
        </p:nvPicPr>
        <p:blipFill>
          <a:blip r:embed="rId1"/>
          <a:stretch/>
        </p:blipFill>
        <p:spPr>
          <a:xfrm>
            <a:off x="336600" y="447840"/>
            <a:ext cx="82170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Macintosh HD:Users:lydiakinney:Desktop:Screen shot 2010-05-06 at 12.13.46 PM.png"/>
          <p:cNvPicPr/>
          <p:nvPr/>
        </p:nvPicPr>
        <p:blipFill>
          <a:blip r:embed="rId1"/>
          <a:stretch/>
        </p:blipFill>
        <p:spPr>
          <a:xfrm>
            <a:off x="311040" y="388800"/>
            <a:ext cx="846144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Macintosh HD:Users:lydiakinney:Desktop:Screen shot 2010-05-06 at 12.27.11 PM.png"/>
          <p:cNvPicPr/>
          <p:nvPr/>
        </p:nvPicPr>
        <p:blipFill>
          <a:blip r:embed="rId1"/>
          <a:stretch/>
        </p:blipFill>
        <p:spPr>
          <a:xfrm>
            <a:off x="609480" y="298440"/>
            <a:ext cx="816300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Screen shot 2010-05-06 at 12.34.28 PM.png"/>
          <p:cNvPicPr/>
          <p:nvPr/>
        </p:nvPicPr>
        <p:blipFill>
          <a:blip r:embed="rId1"/>
          <a:stretch/>
        </p:blipFill>
        <p:spPr>
          <a:xfrm>
            <a:off x="790560" y="765000"/>
            <a:ext cx="756756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Screen shot 2010-05-06 at 12.41.14 PM.png"/>
          <p:cNvPicPr/>
          <p:nvPr/>
        </p:nvPicPr>
        <p:blipFill>
          <a:blip r:embed="rId1"/>
          <a:stretch/>
        </p:blipFill>
        <p:spPr>
          <a:xfrm>
            <a:off x="816120" y="622440"/>
            <a:ext cx="702468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Screen shot 2010-05-06 at 12.44.02 PM.png"/>
          <p:cNvPicPr/>
          <p:nvPr/>
        </p:nvPicPr>
        <p:blipFill>
          <a:blip r:embed="rId1"/>
          <a:stretch/>
        </p:blipFill>
        <p:spPr>
          <a:xfrm>
            <a:off x="1828800" y="1360440"/>
            <a:ext cx="548640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7:25:58Z</dcterms:created>
  <dc:creator>Lydia  Kinney </dc:creator>
  <dc:description/>
  <dc:language>en-US</dc:language>
  <cp:lastModifiedBy>Lydia  Kinney </cp:lastModifiedBy>
  <dcterms:modified xsi:type="dcterms:W3CDTF">2010-05-06T19:29:27Z</dcterms:modified>
  <cp:revision>1</cp:revision>
  <dc:subject/>
  <dc:title>Slide 1</dc:title>
</cp:coreProperties>
</file>